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ED0-ACF3-466F-A668-B7784DD5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50FA-E572-48C4-BC23-52AE07D7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37A-34EC-4E94-A523-2FDFBF80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3A09-E276-4757-8B9B-8F863C99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1F90D-B5A5-400B-BFEF-119574A4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B0EB5-B41A-4AEB-8208-45A020F9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52B51-F73A-4EBC-8BCA-CF76FC42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4D8F5-C84A-4B9D-9F28-4C529D12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49CE9-6F32-443A-A618-43F76EE6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44206-51DA-47E1-BCCD-D7CB70B5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9B0E3-71BC-47F2-B069-E9456990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ABDA-B762-43D3-9704-5DEAE574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90ACE-74E4-4E2F-B8C2-8830ACE3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28F1C-D961-49F7-A6A9-F5D86D28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AA7F3-0890-4065-99EB-92DB52E8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CECFDC-FDE6-4179-BBD7-5FC1FB33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0018B-CD5A-43BC-A4BA-EE1248F82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F415-306D-47E6-9136-767F0D31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5D30-0AC2-4016-AD05-024ADA00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15F6-3738-43DE-A589-88347117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49C-B82B-4518-8A97-7B5D122D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FF4D-E084-403A-8FC1-2F865F9F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93FC-1A3B-4D54-8A77-FDD41308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EE1-4267-4FC9-99F4-D84113CD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B6F6-B9D6-4038-AD93-E21C582016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FB38-22FA-454C-840E-C7BAA2C97A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8207280" cy="587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ransporte y distribución</a:t>
            </a:r>
            <a:br>
              <a:rPr sz="4800"/>
            </a:br>
            <a:br>
              <a:rPr sz="36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  la</a:t>
            </a:r>
            <a:br>
              <a:rPr sz="4400"/>
            </a:br>
            <a:br>
              <a:rPr sz="36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nergía eléctrica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María Victoria Salaza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044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¿Cómo llega la energía eléctrica hasta nuestros hogares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66560"/>
            <a:ext cx="850752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es eléctr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íneas de transpor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lace acometida – vivi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CP y CGM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CP (Interruptor de Control de Potencia) / CGMP (Cuadro General de Mando y Protecció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781360"/>
            <a:ext cx="0" cy="71892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933720"/>
            <a:ext cx="0" cy="6476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5086440"/>
            <a:ext cx="0" cy="6476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entrales eléctrica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484280"/>
            <a:ext cx="36068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Convencionale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érm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ucle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Hidráu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ahoma"/>
              </a:rPr>
              <a:t>Alternativas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ó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aremotri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 las ol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aremotérm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Geotérm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Biomas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3280" y="1773000"/>
            <a:ext cx="4392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Funcionamient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rbina - alternad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que transform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 mecánica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. eléct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excepción: paneles solares fotovoltaico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1557360"/>
            <a:ext cx="0" cy="4751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íneas de transport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entral eléctr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Subestación - TRF (transformador) de salid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Línea de muy alta tensión (420 kV, 220 kV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Subestación – TR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Línea de alta tensión (132 kV, 45 kV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Subestación – TR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Línea de media tensión (35 kV, 20 kV, 11 kV, 3 kV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Subestación – TR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Línea de baja tensión (1000 V, 500 V, 380 V, 220 V, 127 V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comet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1701720"/>
            <a:ext cx="0" cy="2145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205000"/>
            <a:ext cx="0" cy="214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2782800"/>
            <a:ext cx="0" cy="2145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3284640"/>
            <a:ext cx="0" cy="214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3789360"/>
            <a:ext cx="0" cy="214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4292640"/>
            <a:ext cx="0" cy="214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4869000"/>
            <a:ext cx="0" cy="214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5300640"/>
            <a:ext cx="0" cy="21420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5877000"/>
            <a:ext cx="0" cy="2887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nlace acometida – vivi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cometi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ja general de prote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ínea(s) repartidora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entralización de contado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ínea de derivación individ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Vivien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2997360"/>
            <a:ext cx="0" cy="3585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4078440"/>
            <a:ext cx="0" cy="35856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941720"/>
            <a:ext cx="0" cy="3589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877000"/>
            <a:ext cx="0" cy="2887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2203560"/>
            <a:ext cx="0" cy="28872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P y CGM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78200"/>
          <a:ext cx="8218440" cy="3827160"/>
        </p:xfrm>
        <a:graphic>
          <a:graphicData uri="http://schemas.openxmlformats.org/drawingml/2006/table">
            <a:tbl>
              <a:tblPr/>
              <a:tblGrid>
                <a:gridCol w="2386080"/>
                <a:gridCol w="5832360"/>
              </a:tblGrid>
              <a:tr h="382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C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Interruptor de Control de Potenci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cc00"/>
                      </a:solidFill>
                    </a:lnL>
                    <a:lnR w="38160">
                      <a:solidFill>
                        <a:srgbClr val="ffcc00"/>
                      </a:solidFill>
                    </a:lnR>
                    <a:lnT w="28080">
                      <a:solidFill>
                        <a:srgbClr val="ffcc00"/>
                      </a:solidFill>
                    </a:lnT>
                    <a:lnB w="280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GMP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Cuadro General de Mando y Protección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GA            ID            PI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Interruptor      (Interruptor        (Pequeñ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eneral           Diferencial)      Interruptor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utomático)                             Automátic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cc00"/>
                      </a:solidFill>
                    </a:lnL>
                    <a:lnR w="28080">
                      <a:solidFill>
                        <a:srgbClr val="ffcc00"/>
                      </a:solidFill>
                    </a:lnR>
                    <a:lnT w="28080">
                      <a:solidFill>
                        <a:srgbClr val="ffcc00"/>
                      </a:solidFill>
                    </a:lnT>
                    <a:lnB w="280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916360" y="2924280"/>
            <a:ext cx="561636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03640" y="2924280"/>
            <a:ext cx="0" cy="28810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16720" y="2924280"/>
            <a:ext cx="0" cy="28810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7:20:00Z</dcterms:created>
  <dc:creator>Victoria</dc:creator>
  <dc:description/>
  <dc:language>en-US</dc:language>
  <cp:lastModifiedBy>Victoria</cp:lastModifiedBy>
  <dcterms:modified xsi:type="dcterms:W3CDTF">2009-12-19T20:17:43Z</dcterms:modified>
  <cp:revision>73</cp:revision>
  <dc:subject/>
  <dc:title>Distribución de la energía eléctrica</dc:title>
</cp:coreProperties>
</file>